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81E-20F8-4D1E-BCC5-44A26345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B9C-C14A-4F4F-90F3-194E3D8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882-6638-48BD-B0B8-92C885A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91E-E364-4BF6-A634-E3693686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4B4-F4AB-4E9F-9EC3-A5340D4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368-D14D-43D6-A68E-79830F0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1CB-7795-4E0D-9320-72B4194A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AB8-654C-43C9-AFEB-609CCB3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204-CAF0-4A33-9248-90BACC4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864-3AAF-4C8E-A41C-AAC67B7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42E-ED5F-467E-84C6-BE87B85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F92-59D8-4E30-827F-228A1866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C92-012E-4F7E-A526-338508F50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18320" y="5194440"/>
            <a:ext cx="1714320" cy="1054080"/>
          </a:xfrm>
          <a:custGeom>
            <a:avLst/>
            <a:gdLst/>
            <a:ahLst/>
            <a:rect l="l" t="t" r="r" b="b"/>
            <a:pathLst>
              <a:path w="4763" h="2929">
                <a:moveTo>
                  <a:pt x="18662" y="15522"/>
                </a:moveTo>
                <a:cubicBezTo>
                  <a:pt x="18662" y="15698"/>
                  <a:pt x="18662" y="15875"/>
                  <a:pt x="18662" y="16051"/>
                </a:cubicBezTo>
              </a:path>
              <a:path w="4763" h="2929">
                <a:moveTo>
                  <a:pt x="19579" y="14534"/>
                </a:moveTo>
                <a:cubicBezTo>
                  <a:pt x="19579" y="14499"/>
                  <a:pt x="19579" y="14464"/>
                  <a:pt x="19579" y="14429"/>
                </a:cubicBezTo>
                <a:cubicBezTo>
                  <a:pt x="19476" y="14429"/>
                  <a:pt x="19388" y="14436"/>
                  <a:pt x="19332" y="14464"/>
                </a:cubicBezTo>
                <a:cubicBezTo>
                  <a:pt x="19280" y="14490"/>
                  <a:pt x="19266" y="14469"/>
                  <a:pt x="19226" y="14499"/>
                </a:cubicBezTo>
                <a:cubicBezTo>
                  <a:pt x="19168" y="14542"/>
                  <a:pt x="19156" y="14572"/>
                  <a:pt x="19156" y="14640"/>
                </a:cubicBezTo>
                <a:cubicBezTo>
                  <a:pt x="19156" y="14697"/>
                  <a:pt x="19130" y="14821"/>
                  <a:pt x="19191" y="14852"/>
                </a:cubicBezTo>
                <a:cubicBezTo>
                  <a:pt x="19232" y="14872"/>
                  <a:pt x="19232" y="14916"/>
                  <a:pt x="19297" y="14923"/>
                </a:cubicBezTo>
                <a:cubicBezTo>
                  <a:pt x="19395" y="14934"/>
                  <a:pt x="19507" y="14953"/>
                  <a:pt x="19544" y="14852"/>
                </a:cubicBezTo>
                <a:cubicBezTo>
                  <a:pt x="19565" y="14795"/>
                  <a:pt x="19544" y="14512"/>
                  <a:pt x="19544" y="14570"/>
                </a:cubicBezTo>
                <a:cubicBezTo>
                  <a:pt x="19544" y="14779"/>
                  <a:pt x="19518" y="15019"/>
                  <a:pt x="19579" y="15205"/>
                </a:cubicBezTo>
                <a:cubicBezTo>
                  <a:pt x="19599" y="15266"/>
                  <a:pt x="19579" y="15294"/>
                  <a:pt x="19579" y="15205"/>
                </a:cubicBezTo>
              </a:path>
              <a:path w="4763" h="2929">
                <a:moveTo>
                  <a:pt x="19967" y="14499"/>
                </a:moveTo>
                <a:cubicBezTo>
                  <a:pt x="20132" y="14499"/>
                  <a:pt x="20296" y="14499"/>
                  <a:pt x="20461" y="14499"/>
                </a:cubicBezTo>
              </a:path>
              <a:path w="4763" h="2929">
                <a:moveTo>
                  <a:pt x="20214" y="14570"/>
                </a:moveTo>
                <a:cubicBezTo>
                  <a:pt x="20214" y="14782"/>
                  <a:pt x="20214" y="14993"/>
                  <a:pt x="20214" y="15205"/>
                </a:cubicBezTo>
                <a:cubicBezTo>
                  <a:pt x="20214" y="15146"/>
                  <a:pt x="20214" y="15087"/>
                  <a:pt x="20214" y="15028"/>
                </a:cubicBezTo>
              </a:path>
              <a:path w="4763" h="2929">
                <a:moveTo>
                  <a:pt x="20426" y="14429"/>
                </a:moveTo>
                <a:cubicBezTo>
                  <a:pt x="20426" y="14638"/>
                  <a:pt x="20363" y="14996"/>
                  <a:pt x="20461" y="15169"/>
                </a:cubicBezTo>
                <a:cubicBezTo>
                  <a:pt x="20489" y="15227"/>
                  <a:pt x="20501" y="15236"/>
                  <a:pt x="20496" y="15275"/>
                </a:cubicBezTo>
                <a:cubicBezTo>
                  <a:pt x="20496" y="15158"/>
                  <a:pt x="20496" y="15357"/>
                  <a:pt x="20496" y="15240"/>
                </a:cubicBezTo>
                <a:cubicBezTo>
                  <a:pt x="20456" y="15240"/>
                  <a:pt x="20441" y="15237"/>
                  <a:pt x="20426" y="15205"/>
                </a:cubicBezTo>
              </a:path>
              <a:path w="4763" h="2929">
                <a:moveTo>
                  <a:pt x="19368" y="15522"/>
                </a:moveTo>
                <a:cubicBezTo>
                  <a:pt x="19668" y="15522"/>
                  <a:pt x="20200" y="15600"/>
                  <a:pt x="20426" y="15487"/>
                </a:cubicBezTo>
                <a:cubicBezTo>
                  <a:pt x="20505" y="15447"/>
                  <a:pt x="20689" y="15487"/>
                  <a:pt x="20779" y="15487"/>
                </a:cubicBezTo>
                <a:cubicBezTo>
                  <a:pt x="20732" y="15487"/>
                  <a:pt x="20685" y="15487"/>
                  <a:pt x="20638" y="15487"/>
                </a:cubicBezTo>
              </a:path>
              <a:path w="4763" h="2929">
                <a:moveTo>
                  <a:pt x="19932" y="16051"/>
                </a:moveTo>
                <a:cubicBezTo>
                  <a:pt x="19932" y="16204"/>
                  <a:pt x="19932" y="16357"/>
                  <a:pt x="19932" y="16510"/>
                </a:cubicBezTo>
                <a:cubicBezTo>
                  <a:pt x="20046" y="16510"/>
                  <a:pt x="20073" y="16569"/>
                  <a:pt x="20179" y="16581"/>
                </a:cubicBezTo>
                <a:cubicBezTo>
                  <a:pt x="20286" y="16593"/>
                  <a:pt x="20336" y="16674"/>
                  <a:pt x="20426" y="16686"/>
                </a:cubicBezTo>
                <a:cubicBezTo>
                  <a:pt x="20495" y="16695"/>
                  <a:pt x="20569" y="16686"/>
                  <a:pt x="20638" y="16686"/>
                </a:cubicBezTo>
                <a:cubicBezTo>
                  <a:pt x="20620" y="16633"/>
                  <a:pt x="20606" y="16645"/>
                  <a:pt x="20567" y="16616"/>
                </a:cubicBezTo>
                <a:cubicBezTo>
                  <a:pt x="20511" y="16574"/>
                  <a:pt x="20508" y="16526"/>
                  <a:pt x="20461" y="16510"/>
                </a:cubicBezTo>
              </a:path>
              <a:path w="4763" h="2929">
                <a:moveTo>
                  <a:pt x="20320" y="16016"/>
                </a:moveTo>
                <a:cubicBezTo>
                  <a:pt x="20320" y="16095"/>
                  <a:pt x="20338" y="16122"/>
                  <a:pt x="20355" y="16157"/>
                </a:cubicBezTo>
                <a:cubicBezTo>
                  <a:pt x="20426" y="16302"/>
                  <a:pt x="20304" y="16551"/>
                  <a:pt x="20320" y="16686"/>
                </a:cubicBezTo>
                <a:cubicBezTo>
                  <a:pt x="20332" y="16787"/>
                  <a:pt x="20381" y="16910"/>
                  <a:pt x="20426" y="17004"/>
                </a:cubicBezTo>
                <a:cubicBezTo>
                  <a:pt x="20472" y="17101"/>
                  <a:pt x="20496" y="17062"/>
                  <a:pt x="20496" y="17180"/>
                </a:cubicBezTo>
                <a:cubicBezTo>
                  <a:pt x="20496" y="17245"/>
                  <a:pt x="20522" y="17256"/>
                  <a:pt x="20461" y="17216"/>
                </a:cubicBezTo>
              </a:path>
              <a:path w="4763" h="2929">
                <a:moveTo>
                  <a:pt x="21167" y="15558"/>
                </a:moveTo>
                <a:cubicBezTo>
                  <a:pt x="21167" y="15711"/>
                  <a:pt x="21167" y="15863"/>
                  <a:pt x="21167" y="16016"/>
                </a:cubicBezTo>
                <a:cubicBezTo>
                  <a:pt x="21131" y="16016"/>
                  <a:pt x="21119" y="16016"/>
                  <a:pt x="21131" y="15981"/>
                </a:cubicBezTo>
              </a:path>
              <a:path w="4763" h="2929">
                <a:moveTo>
                  <a:pt x="21837" y="14711"/>
                </a:moveTo>
                <a:cubicBezTo>
                  <a:pt x="21837" y="14981"/>
                  <a:pt x="21837" y="15722"/>
                  <a:pt x="21837" y="15452"/>
                </a:cubicBezTo>
              </a:path>
              <a:path w="4763" h="2929">
                <a:moveTo>
                  <a:pt x="22119" y="14676"/>
                </a:moveTo>
                <a:cubicBezTo>
                  <a:pt x="22119" y="14711"/>
                  <a:pt x="22119" y="14723"/>
                  <a:pt x="22119" y="14746"/>
                </a:cubicBezTo>
                <a:cubicBezTo>
                  <a:pt x="22180" y="14787"/>
                  <a:pt x="22196" y="14820"/>
                  <a:pt x="22225" y="14887"/>
                </a:cubicBezTo>
                <a:cubicBezTo>
                  <a:pt x="22258" y="14963"/>
                  <a:pt x="22238" y="15118"/>
                  <a:pt x="22260" y="15205"/>
                </a:cubicBezTo>
                <a:cubicBezTo>
                  <a:pt x="22273" y="15256"/>
                  <a:pt x="22260" y="15328"/>
                  <a:pt x="22260" y="15381"/>
                </a:cubicBezTo>
              </a:path>
              <a:path w="4763" h="2929">
                <a:moveTo>
                  <a:pt x="22684" y="14676"/>
                </a:moveTo>
                <a:cubicBezTo>
                  <a:pt x="22849" y="14676"/>
                  <a:pt x="23013" y="14676"/>
                  <a:pt x="23178" y="14676"/>
                </a:cubicBezTo>
                <a:cubicBezTo>
                  <a:pt x="23142" y="14676"/>
                  <a:pt x="23131" y="14676"/>
                  <a:pt x="23107" y="14676"/>
                </a:cubicBezTo>
              </a:path>
              <a:path w="4763" h="2929">
                <a:moveTo>
                  <a:pt x="22860" y="14746"/>
                </a:moveTo>
                <a:cubicBezTo>
                  <a:pt x="22860" y="15028"/>
                  <a:pt x="22860" y="15311"/>
                  <a:pt x="22860" y="15593"/>
                </a:cubicBezTo>
                <a:cubicBezTo>
                  <a:pt x="22860" y="15558"/>
                  <a:pt x="22860" y="15522"/>
                  <a:pt x="22860" y="15487"/>
                </a:cubicBezTo>
              </a:path>
              <a:path w="4763" h="2929">
                <a:moveTo>
                  <a:pt x="23072" y="14746"/>
                </a:moveTo>
                <a:cubicBezTo>
                  <a:pt x="23072" y="14970"/>
                  <a:pt x="23053" y="15214"/>
                  <a:pt x="23107" y="15416"/>
                </a:cubicBezTo>
                <a:cubicBezTo>
                  <a:pt x="23107" y="15428"/>
                  <a:pt x="23107" y="15440"/>
                  <a:pt x="23107" y="15452"/>
                </a:cubicBezTo>
              </a:path>
              <a:path w="4763" h="2929">
                <a:moveTo>
                  <a:pt x="21908" y="15804"/>
                </a:moveTo>
                <a:cubicBezTo>
                  <a:pt x="22214" y="15804"/>
                  <a:pt x="22523" y="15786"/>
                  <a:pt x="22825" y="15840"/>
                </a:cubicBezTo>
                <a:cubicBezTo>
                  <a:pt x="23004" y="15872"/>
                  <a:pt x="23172" y="15875"/>
                  <a:pt x="23354" y="15875"/>
                </a:cubicBezTo>
                <a:cubicBezTo>
                  <a:pt x="23431" y="15875"/>
                  <a:pt x="23431" y="15875"/>
                  <a:pt x="23354" y="15875"/>
                </a:cubicBezTo>
              </a:path>
              <a:path w="4763" h="2929">
                <a:moveTo>
                  <a:pt x="22754" y="16369"/>
                </a:moveTo>
                <a:cubicBezTo>
                  <a:pt x="22754" y="16498"/>
                  <a:pt x="22754" y="16628"/>
                  <a:pt x="22754" y="16757"/>
                </a:cubicBezTo>
                <a:cubicBezTo>
                  <a:pt x="22930" y="16757"/>
                  <a:pt x="23107" y="16757"/>
                  <a:pt x="23283" y="16757"/>
                </a:cubicBezTo>
                <a:cubicBezTo>
                  <a:pt x="23283" y="16722"/>
                  <a:pt x="23283" y="16710"/>
                  <a:pt x="23283" y="16686"/>
                </a:cubicBezTo>
              </a:path>
              <a:path w="4763" h="2929">
                <a:moveTo>
                  <a:pt x="23072" y="16334"/>
                </a:moveTo>
                <a:cubicBezTo>
                  <a:pt x="23118" y="16395"/>
                  <a:pt x="23135" y="16429"/>
                  <a:pt x="23142" y="16510"/>
                </a:cubicBezTo>
                <a:cubicBezTo>
                  <a:pt x="23159" y="16717"/>
                  <a:pt x="23094" y="16955"/>
                  <a:pt x="23178" y="17145"/>
                </a:cubicBezTo>
                <a:cubicBezTo>
                  <a:pt x="23209" y="17215"/>
                  <a:pt x="23233" y="17283"/>
                  <a:pt x="23248" y="173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712360" y="5791320"/>
            <a:ext cx="37800" cy="190440"/>
          </a:xfrm>
          <a:custGeom>
            <a:avLst/>
            <a:gdLst/>
            <a:ahLst/>
            <a:rect l="l" t="t" r="r" b="b"/>
            <a:pathLst>
              <a:path w="106" h="530">
                <a:moveTo>
                  <a:pt x="24271" y="16087"/>
                </a:moveTo>
                <a:cubicBezTo>
                  <a:pt x="24271" y="16122"/>
                  <a:pt x="24271" y="16158"/>
                  <a:pt x="24271" y="16193"/>
                </a:cubicBezTo>
                <a:cubicBezTo>
                  <a:pt x="24318" y="16225"/>
                  <a:pt x="24306" y="16263"/>
                  <a:pt x="24306" y="16334"/>
                </a:cubicBezTo>
                <a:cubicBezTo>
                  <a:pt x="24306" y="16437"/>
                  <a:pt x="24299" y="16496"/>
                  <a:pt x="24271" y="16581"/>
                </a:cubicBezTo>
                <a:cubicBezTo>
                  <a:pt x="24252" y="16640"/>
                  <a:pt x="24252" y="16620"/>
                  <a:pt x="24201" y="165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55080" y="5295960"/>
            <a:ext cx="1701720" cy="1181160"/>
          </a:xfrm>
          <a:custGeom>
            <a:avLst/>
            <a:gdLst/>
            <a:ahLst/>
            <a:rect l="l" t="t" r="r" b="b"/>
            <a:pathLst>
              <a:path w="4728" h="3282">
                <a:moveTo>
                  <a:pt x="25153" y="14817"/>
                </a:moveTo>
                <a:cubicBezTo>
                  <a:pt x="25153" y="15076"/>
                  <a:pt x="25153" y="15334"/>
                  <a:pt x="25153" y="15593"/>
                </a:cubicBezTo>
              </a:path>
              <a:path w="4728" h="3282">
                <a:moveTo>
                  <a:pt x="25471" y="14887"/>
                </a:moveTo>
                <a:cubicBezTo>
                  <a:pt x="25535" y="14887"/>
                  <a:pt x="25554" y="14858"/>
                  <a:pt x="25612" y="14852"/>
                </a:cubicBezTo>
                <a:cubicBezTo>
                  <a:pt x="25669" y="14846"/>
                  <a:pt x="25730" y="14852"/>
                  <a:pt x="25788" y="14852"/>
                </a:cubicBezTo>
                <a:cubicBezTo>
                  <a:pt x="25788" y="14926"/>
                  <a:pt x="25770" y="14931"/>
                  <a:pt x="25718" y="14993"/>
                </a:cubicBezTo>
                <a:cubicBezTo>
                  <a:pt x="25685" y="15033"/>
                  <a:pt x="25560" y="15064"/>
                  <a:pt x="25612" y="15064"/>
                </a:cubicBezTo>
                <a:cubicBezTo>
                  <a:pt x="25663" y="15064"/>
                  <a:pt x="25715" y="15074"/>
                  <a:pt x="25753" y="15099"/>
                </a:cubicBezTo>
                <a:cubicBezTo>
                  <a:pt x="25825" y="15147"/>
                  <a:pt x="25895" y="15248"/>
                  <a:pt x="25964" y="15311"/>
                </a:cubicBezTo>
                <a:cubicBezTo>
                  <a:pt x="26024" y="15365"/>
                  <a:pt x="26000" y="15446"/>
                  <a:pt x="26000" y="15522"/>
                </a:cubicBezTo>
                <a:cubicBezTo>
                  <a:pt x="26000" y="15534"/>
                  <a:pt x="26000" y="15546"/>
                  <a:pt x="26000" y="15558"/>
                </a:cubicBezTo>
                <a:cubicBezTo>
                  <a:pt x="25917" y="15568"/>
                  <a:pt x="25826" y="15612"/>
                  <a:pt x="25788" y="15628"/>
                </a:cubicBezTo>
                <a:cubicBezTo>
                  <a:pt x="25727" y="15654"/>
                  <a:pt x="25589" y="15632"/>
                  <a:pt x="25576" y="15593"/>
                </a:cubicBezTo>
              </a:path>
              <a:path w="4728" h="3282">
                <a:moveTo>
                  <a:pt x="26494" y="14781"/>
                </a:moveTo>
                <a:cubicBezTo>
                  <a:pt x="26494" y="15122"/>
                  <a:pt x="26494" y="16075"/>
                  <a:pt x="26494" y="15734"/>
                </a:cubicBezTo>
                <a:cubicBezTo>
                  <a:pt x="26494" y="15699"/>
                  <a:pt x="26494" y="15663"/>
                  <a:pt x="26494" y="15628"/>
                </a:cubicBezTo>
              </a:path>
              <a:path w="4728" h="3282">
                <a:moveTo>
                  <a:pt x="26846" y="14781"/>
                </a:moveTo>
                <a:cubicBezTo>
                  <a:pt x="26846" y="15036"/>
                  <a:pt x="26791" y="15355"/>
                  <a:pt x="26882" y="15593"/>
                </a:cubicBezTo>
                <a:cubicBezTo>
                  <a:pt x="26911" y="15670"/>
                  <a:pt x="26958" y="15702"/>
                  <a:pt x="26988" y="15769"/>
                </a:cubicBezTo>
                <a:cubicBezTo>
                  <a:pt x="26988" y="15781"/>
                  <a:pt x="26988" y="15792"/>
                  <a:pt x="26988" y="15804"/>
                </a:cubicBezTo>
                <a:cubicBezTo>
                  <a:pt x="26953" y="15758"/>
                  <a:pt x="26922" y="15741"/>
                  <a:pt x="26917" y="15699"/>
                </a:cubicBezTo>
                <a:cubicBezTo>
                  <a:pt x="26917" y="15687"/>
                  <a:pt x="26917" y="15675"/>
                  <a:pt x="26917" y="15663"/>
                </a:cubicBezTo>
              </a:path>
              <a:path w="4728" h="3282">
                <a:moveTo>
                  <a:pt x="26388" y="14781"/>
                </a:moveTo>
                <a:cubicBezTo>
                  <a:pt x="26571" y="14781"/>
                  <a:pt x="26740" y="14765"/>
                  <a:pt x="26917" y="14746"/>
                </a:cubicBezTo>
                <a:cubicBezTo>
                  <a:pt x="27029" y="14734"/>
                  <a:pt x="27119" y="14711"/>
                  <a:pt x="27234" y="14711"/>
                </a:cubicBezTo>
                <a:cubicBezTo>
                  <a:pt x="27246" y="14711"/>
                  <a:pt x="27258" y="14711"/>
                  <a:pt x="27270" y="14711"/>
                </a:cubicBezTo>
              </a:path>
              <a:path w="4728" h="3282">
                <a:moveTo>
                  <a:pt x="25647" y="15946"/>
                </a:moveTo>
                <a:cubicBezTo>
                  <a:pt x="25647" y="15981"/>
                  <a:pt x="25647" y="15993"/>
                  <a:pt x="25612" y="15981"/>
                </a:cubicBezTo>
                <a:cubicBezTo>
                  <a:pt x="26047" y="15981"/>
                  <a:pt x="27281" y="15981"/>
                  <a:pt x="26846" y="15981"/>
                </a:cubicBezTo>
              </a:path>
              <a:path w="4728" h="3282">
                <a:moveTo>
                  <a:pt x="25859" y="16722"/>
                </a:moveTo>
                <a:cubicBezTo>
                  <a:pt x="25859" y="16769"/>
                  <a:pt x="25859" y="16816"/>
                  <a:pt x="25859" y="16863"/>
                </a:cubicBezTo>
                <a:cubicBezTo>
                  <a:pt x="25946" y="16863"/>
                  <a:pt x="26413" y="16906"/>
                  <a:pt x="26423" y="16828"/>
                </a:cubicBezTo>
                <a:cubicBezTo>
                  <a:pt x="26423" y="16792"/>
                  <a:pt x="26423" y="16780"/>
                  <a:pt x="26388" y="16792"/>
                </a:cubicBezTo>
              </a:path>
              <a:path w="4728" h="3282">
                <a:moveTo>
                  <a:pt x="26141" y="16439"/>
                </a:moveTo>
                <a:cubicBezTo>
                  <a:pt x="26181" y="16493"/>
                  <a:pt x="26176" y="16512"/>
                  <a:pt x="26176" y="16581"/>
                </a:cubicBezTo>
                <a:cubicBezTo>
                  <a:pt x="26176" y="16922"/>
                  <a:pt x="26176" y="17263"/>
                  <a:pt x="26176" y="17604"/>
                </a:cubicBezTo>
              </a:path>
              <a:path w="4728" h="3282">
                <a:moveTo>
                  <a:pt x="27305" y="16122"/>
                </a:moveTo>
                <a:cubicBezTo>
                  <a:pt x="27317" y="16184"/>
                  <a:pt x="27340" y="16232"/>
                  <a:pt x="27340" y="16298"/>
                </a:cubicBezTo>
                <a:cubicBezTo>
                  <a:pt x="27340" y="16333"/>
                  <a:pt x="27340" y="16369"/>
                  <a:pt x="27340" y="16404"/>
                </a:cubicBezTo>
              </a:path>
              <a:path w="4728" h="3282">
                <a:moveTo>
                  <a:pt x="27869" y="14923"/>
                </a:moveTo>
                <a:cubicBezTo>
                  <a:pt x="27869" y="15241"/>
                  <a:pt x="27869" y="16122"/>
                  <a:pt x="27869" y="15804"/>
                </a:cubicBezTo>
                <a:cubicBezTo>
                  <a:pt x="27869" y="15747"/>
                  <a:pt x="27851" y="15786"/>
                  <a:pt x="27834" y="15734"/>
                </a:cubicBezTo>
              </a:path>
              <a:path w="4728" h="3282">
                <a:moveTo>
                  <a:pt x="28434" y="14817"/>
                </a:moveTo>
                <a:cubicBezTo>
                  <a:pt x="28434" y="14829"/>
                  <a:pt x="28434" y="14840"/>
                  <a:pt x="28434" y="14852"/>
                </a:cubicBezTo>
                <a:cubicBezTo>
                  <a:pt x="28552" y="14852"/>
                  <a:pt x="28669" y="14852"/>
                  <a:pt x="28787" y="14852"/>
                </a:cubicBezTo>
              </a:path>
              <a:path w="4728" h="3282">
                <a:moveTo>
                  <a:pt x="28293" y="14958"/>
                </a:moveTo>
                <a:cubicBezTo>
                  <a:pt x="28293" y="15041"/>
                  <a:pt x="28264" y="15050"/>
                  <a:pt x="28258" y="15099"/>
                </a:cubicBezTo>
                <a:cubicBezTo>
                  <a:pt x="28248" y="15179"/>
                  <a:pt x="28258" y="15265"/>
                  <a:pt x="28258" y="15346"/>
                </a:cubicBezTo>
                <a:cubicBezTo>
                  <a:pt x="28277" y="15289"/>
                  <a:pt x="28328" y="15311"/>
                  <a:pt x="28399" y="15311"/>
                </a:cubicBezTo>
                <a:cubicBezTo>
                  <a:pt x="28437" y="15311"/>
                  <a:pt x="28634" y="15427"/>
                  <a:pt x="28681" y="15452"/>
                </a:cubicBezTo>
                <a:cubicBezTo>
                  <a:pt x="28725" y="15476"/>
                  <a:pt x="28900" y="15579"/>
                  <a:pt x="28928" y="15628"/>
                </a:cubicBezTo>
                <a:cubicBezTo>
                  <a:pt x="28955" y="15677"/>
                  <a:pt x="28922" y="15771"/>
                  <a:pt x="28893" y="15804"/>
                </a:cubicBezTo>
                <a:cubicBezTo>
                  <a:pt x="28862" y="15838"/>
                  <a:pt x="28762" y="15899"/>
                  <a:pt x="28716" y="15910"/>
                </a:cubicBezTo>
                <a:cubicBezTo>
                  <a:pt x="28650" y="15925"/>
                  <a:pt x="28564" y="15945"/>
                  <a:pt x="28504" y="15981"/>
                </a:cubicBezTo>
                <a:cubicBezTo>
                  <a:pt x="28486" y="15992"/>
                  <a:pt x="28394" y="16053"/>
                  <a:pt x="28363" y="16016"/>
                </a:cubicBezTo>
                <a:cubicBezTo>
                  <a:pt x="28363" y="16004"/>
                  <a:pt x="28363" y="15993"/>
                  <a:pt x="28363" y="15981"/>
                </a:cubicBezTo>
              </a:path>
              <a:path w="4728" h="3282">
                <a:moveTo>
                  <a:pt x="29175" y="15028"/>
                </a:moveTo>
                <a:cubicBezTo>
                  <a:pt x="29175" y="15131"/>
                  <a:pt x="29168" y="15215"/>
                  <a:pt x="29210" y="15311"/>
                </a:cubicBezTo>
                <a:cubicBezTo>
                  <a:pt x="29255" y="15413"/>
                  <a:pt x="29322" y="15524"/>
                  <a:pt x="29351" y="15628"/>
                </a:cubicBezTo>
                <a:cubicBezTo>
                  <a:pt x="29368" y="15691"/>
                  <a:pt x="29415" y="15745"/>
                  <a:pt x="29422" y="15804"/>
                </a:cubicBezTo>
                <a:cubicBezTo>
                  <a:pt x="29430" y="15874"/>
                  <a:pt x="29397" y="15836"/>
                  <a:pt x="29386" y="15804"/>
                </a:cubicBezTo>
              </a:path>
              <a:path w="4728" h="3282">
                <a:moveTo>
                  <a:pt x="29492" y="14993"/>
                </a:moveTo>
                <a:cubicBezTo>
                  <a:pt x="29506" y="15034"/>
                  <a:pt x="29522" y="15053"/>
                  <a:pt x="29563" y="15099"/>
                </a:cubicBezTo>
                <a:cubicBezTo>
                  <a:pt x="29615" y="15157"/>
                  <a:pt x="29629" y="15267"/>
                  <a:pt x="29669" y="15346"/>
                </a:cubicBezTo>
                <a:cubicBezTo>
                  <a:pt x="29714" y="15435"/>
                  <a:pt x="29766" y="15500"/>
                  <a:pt x="29774" y="15593"/>
                </a:cubicBezTo>
                <a:cubicBezTo>
                  <a:pt x="29780" y="15670"/>
                  <a:pt x="29804" y="15727"/>
                  <a:pt x="29810" y="15804"/>
                </a:cubicBezTo>
                <a:cubicBezTo>
                  <a:pt x="29815" y="15868"/>
                  <a:pt x="29869" y="15887"/>
                  <a:pt x="29880" y="15910"/>
                </a:cubicBezTo>
                <a:cubicBezTo>
                  <a:pt x="29906" y="15963"/>
                  <a:pt x="29908" y="15990"/>
                  <a:pt x="29880" y="15910"/>
                </a:cubicBezTo>
                <a:cubicBezTo>
                  <a:pt x="29846" y="15842"/>
                  <a:pt x="29837" y="15819"/>
                  <a:pt x="29774" y="15840"/>
                </a:cubicBezTo>
              </a:path>
              <a:path w="4728" h="3282">
                <a:moveTo>
                  <a:pt x="29104" y="14993"/>
                </a:moveTo>
                <a:cubicBezTo>
                  <a:pt x="29292" y="14993"/>
                  <a:pt x="29481" y="14993"/>
                  <a:pt x="29669" y="14993"/>
                </a:cubicBezTo>
              </a:path>
              <a:path w="4728" h="3282">
                <a:moveTo>
                  <a:pt x="28258" y="16228"/>
                </a:moveTo>
                <a:cubicBezTo>
                  <a:pt x="28329" y="16270"/>
                  <a:pt x="28382" y="16263"/>
                  <a:pt x="28469" y="16263"/>
                </a:cubicBezTo>
                <a:cubicBezTo>
                  <a:pt x="28618" y="16263"/>
                  <a:pt x="28748" y="16233"/>
                  <a:pt x="28893" y="16228"/>
                </a:cubicBezTo>
                <a:cubicBezTo>
                  <a:pt x="29151" y="16220"/>
                  <a:pt x="29856" y="16228"/>
                  <a:pt x="29598" y="16228"/>
                </a:cubicBezTo>
                <a:cubicBezTo>
                  <a:pt x="29586" y="16228"/>
                  <a:pt x="29575" y="16228"/>
                  <a:pt x="29563" y="16228"/>
                </a:cubicBezTo>
              </a:path>
              <a:path w="4728" h="3282">
                <a:moveTo>
                  <a:pt x="28857" y="16933"/>
                </a:moveTo>
                <a:cubicBezTo>
                  <a:pt x="28857" y="16980"/>
                  <a:pt x="28857" y="17027"/>
                  <a:pt x="28857" y="17074"/>
                </a:cubicBezTo>
                <a:cubicBezTo>
                  <a:pt x="28930" y="17074"/>
                  <a:pt x="28976" y="17064"/>
                  <a:pt x="29034" y="17110"/>
                </a:cubicBezTo>
                <a:cubicBezTo>
                  <a:pt x="29086" y="17152"/>
                  <a:pt x="29108" y="17145"/>
                  <a:pt x="29175" y="17145"/>
                </a:cubicBezTo>
                <a:cubicBezTo>
                  <a:pt x="29175" y="17110"/>
                  <a:pt x="29175" y="17074"/>
                  <a:pt x="29175" y="17039"/>
                </a:cubicBezTo>
              </a:path>
              <a:path w="4728" h="3282">
                <a:moveTo>
                  <a:pt x="29139" y="16686"/>
                </a:moveTo>
                <a:cubicBezTo>
                  <a:pt x="29218" y="16712"/>
                  <a:pt x="29143" y="16750"/>
                  <a:pt x="29175" y="16828"/>
                </a:cubicBezTo>
                <a:cubicBezTo>
                  <a:pt x="29202" y="16894"/>
                  <a:pt x="29210" y="16920"/>
                  <a:pt x="29210" y="17004"/>
                </a:cubicBezTo>
                <a:cubicBezTo>
                  <a:pt x="29210" y="17174"/>
                  <a:pt x="29230" y="17334"/>
                  <a:pt x="29245" y="17498"/>
                </a:cubicBezTo>
                <a:cubicBezTo>
                  <a:pt x="29259" y="17650"/>
                  <a:pt x="29286" y="17742"/>
                  <a:pt x="29316" y="17886"/>
                </a:cubicBezTo>
                <a:cubicBezTo>
                  <a:pt x="29336" y="17979"/>
                  <a:pt x="29322" y="17992"/>
                  <a:pt x="29245" y="17992"/>
                </a:cubicBezTo>
                <a:cubicBezTo>
                  <a:pt x="29233" y="17992"/>
                  <a:pt x="29222" y="17992"/>
                  <a:pt x="29210" y="179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9600" y="6946920"/>
            <a:ext cx="63360" cy="177840"/>
          </a:xfrm>
          <a:custGeom>
            <a:avLst/>
            <a:gdLst/>
            <a:ahLst/>
            <a:rect l="l" t="t" r="r" b="b"/>
            <a:pathLst>
              <a:path w="177" h="495">
                <a:moveTo>
                  <a:pt x="17110" y="19297"/>
                </a:moveTo>
                <a:cubicBezTo>
                  <a:pt x="17145" y="19297"/>
                  <a:pt x="17157" y="19297"/>
                  <a:pt x="17180" y="19297"/>
                </a:cubicBezTo>
                <a:cubicBezTo>
                  <a:pt x="17180" y="19383"/>
                  <a:pt x="17220" y="19369"/>
                  <a:pt x="17251" y="19438"/>
                </a:cubicBezTo>
                <a:cubicBezTo>
                  <a:pt x="17251" y="19450"/>
                  <a:pt x="17251" y="19461"/>
                  <a:pt x="17251" y="19473"/>
                </a:cubicBezTo>
                <a:cubicBezTo>
                  <a:pt x="17304" y="19491"/>
                  <a:pt x="17286" y="19516"/>
                  <a:pt x="17286" y="19579"/>
                </a:cubicBezTo>
                <a:cubicBezTo>
                  <a:pt x="17286" y="19650"/>
                  <a:pt x="17286" y="19720"/>
                  <a:pt x="17286" y="197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91240" y="6654960"/>
            <a:ext cx="673200" cy="888840"/>
          </a:xfrm>
          <a:custGeom>
            <a:avLst/>
            <a:gdLst/>
            <a:ahLst/>
            <a:rect l="l" t="t" r="r" b="b"/>
            <a:pathLst>
              <a:path w="1871" h="2470">
                <a:moveTo>
                  <a:pt x="18733" y="18591"/>
                </a:moveTo>
                <a:cubicBezTo>
                  <a:pt x="18684" y="18575"/>
                  <a:pt x="18691" y="18536"/>
                  <a:pt x="18662" y="18521"/>
                </a:cubicBezTo>
                <a:cubicBezTo>
                  <a:pt x="18612" y="18496"/>
                  <a:pt x="18577" y="18491"/>
                  <a:pt x="18521" y="18486"/>
                </a:cubicBezTo>
                <a:cubicBezTo>
                  <a:pt x="18442" y="18479"/>
                  <a:pt x="18413" y="18505"/>
                  <a:pt x="18380" y="18521"/>
                </a:cubicBezTo>
                <a:cubicBezTo>
                  <a:pt x="18347" y="18537"/>
                  <a:pt x="18314" y="18589"/>
                  <a:pt x="18309" y="18627"/>
                </a:cubicBezTo>
                <a:cubicBezTo>
                  <a:pt x="18301" y="18688"/>
                  <a:pt x="18283" y="18879"/>
                  <a:pt x="18344" y="18909"/>
                </a:cubicBezTo>
                <a:cubicBezTo>
                  <a:pt x="18419" y="18946"/>
                  <a:pt x="18535" y="18885"/>
                  <a:pt x="18591" y="18874"/>
                </a:cubicBezTo>
                <a:cubicBezTo>
                  <a:pt x="18684" y="18856"/>
                  <a:pt x="18697" y="18867"/>
                  <a:pt x="18697" y="18768"/>
                </a:cubicBezTo>
                <a:cubicBezTo>
                  <a:pt x="18697" y="18733"/>
                  <a:pt x="18697" y="18721"/>
                  <a:pt x="18697" y="18697"/>
                </a:cubicBezTo>
                <a:cubicBezTo>
                  <a:pt x="18711" y="18753"/>
                  <a:pt x="18733" y="18774"/>
                  <a:pt x="18733" y="18838"/>
                </a:cubicBezTo>
                <a:cubicBezTo>
                  <a:pt x="18733" y="18911"/>
                  <a:pt x="18751" y="19012"/>
                  <a:pt x="18768" y="19085"/>
                </a:cubicBezTo>
                <a:cubicBezTo>
                  <a:pt x="18793" y="19195"/>
                  <a:pt x="18838" y="19255"/>
                  <a:pt x="18838" y="19368"/>
                </a:cubicBezTo>
                <a:cubicBezTo>
                  <a:pt x="18838" y="19446"/>
                  <a:pt x="18877" y="19563"/>
                  <a:pt x="18803" y="19438"/>
                </a:cubicBezTo>
              </a:path>
              <a:path w="1871" h="2470">
                <a:moveTo>
                  <a:pt x="19932" y="18697"/>
                </a:moveTo>
                <a:cubicBezTo>
                  <a:pt x="19990" y="18669"/>
                  <a:pt x="19999" y="18657"/>
                  <a:pt x="20038" y="18662"/>
                </a:cubicBezTo>
              </a:path>
              <a:path w="1871" h="2470">
                <a:moveTo>
                  <a:pt x="19368" y="18627"/>
                </a:moveTo>
                <a:cubicBezTo>
                  <a:pt x="19493" y="18627"/>
                  <a:pt x="19600" y="18649"/>
                  <a:pt x="19720" y="18662"/>
                </a:cubicBezTo>
                <a:cubicBezTo>
                  <a:pt x="19869" y="18678"/>
                  <a:pt x="20028" y="18662"/>
                  <a:pt x="20179" y="18662"/>
                </a:cubicBezTo>
                <a:cubicBezTo>
                  <a:pt x="20050" y="18662"/>
                  <a:pt x="19920" y="18662"/>
                  <a:pt x="19791" y="18662"/>
                </a:cubicBezTo>
              </a:path>
              <a:path w="1871" h="2470">
                <a:moveTo>
                  <a:pt x="19685" y="18662"/>
                </a:moveTo>
                <a:cubicBezTo>
                  <a:pt x="19685" y="18850"/>
                  <a:pt x="19685" y="19344"/>
                  <a:pt x="19685" y="19156"/>
                </a:cubicBezTo>
                <a:cubicBezTo>
                  <a:pt x="19685" y="19121"/>
                  <a:pt x="19685" y="19109"/>
                  <a:pt x="19685" y="19085"/>
                </a:cubicBezTo>
              </a:path>
              <a:path w="1871" h="2470">
                <a:moveTo>
                  <a:pt x="19826" y="18662"/>
                </a:moveTo>
                <a:cubicBezTo>
                  <a:pt x="19838" y="18662"/>
                  <a:pt x="19849" y="18662"/>
                  <a:pt x="19861" y="18662"/>
                </a:cubicBezTo>
                <a:cubicBezTo>
                  <a:pt x="19880" y="18718"/>
                  <a:pt x="19878" y="18676"/>
                  <a:pt x="19897" y="18733"/>
                </a:cubicBezTo>
                <a:cubicBezTo>
                  <a:pt x="19961" y="18765"/>
                  <a:pt x="19967" y="18798"/>
                  <a:pt x="19967" y="18874"/>
                </a:cubicBezTo>
                <a:cubicBezTo>
                  <a:pt x="19967" y="18956"/>
                  <a:pt x="19967" y="19039"/>
                  <a:pt x="19967" y="19121"/>
                </a:cubicBezTo>
                <a:cubicBezTo>
                  <a:pt x="19967" y="19085"/>
                  <a:pt x="19967" y="19073"/>
                  <a:pt x="19932" y="19085"/>
                </a:cubicBezTo>
              </a:path>
              <a:path w="1871" h="2470">
                <a:moveTo>
                  <a:pt x="18662" y="19685"/>
                </a:moveTo>
                <a:cubicBezTo>
                  <a:pt x="19121" y="19685"/>
                  <a:pt x="20374" y="19920"/>
                  <a:pt x="20003" y="19650"/>
                </a:cubicBezTo>
                <a:cubicBezTo>
                  <a:pt x="19967" y="19650"/>
                  <a:pt x="19956" y="19650"/>
                  <a:pt x="19932" y="19650"/>
                </a:cubicBezTo>
              </a:path>
              <a:path w="1871" h="2470">
                <a:moveTo>
                  <a:pt x="19156" y="20144"/>
                </a:moveTo>
                <a:cubicBezTo>
                  <a:pt x="19138" y="20197"/>
                  <a:pt x="19121" y="20174"/>
                  <a:pt x="19121" y="20249"/>
                </a:cubicBezTo>
                <a:cubicBezTo>
                  <a:pt x="19121" y="20344"/>
                  <a:pt x="19132" y="20413"/>
                  <a:pt x="19156" y="20461"/>
                </a:cubicBezTo>
                <a:cubicBezTo>
                  <a:pt x="19169" y="20487"/>
                  <a:pt x="19208" y="20525"/>
                  <a:pt x="19262" y="20496"/>
                </a:cubicBezTo>
                <a:cubicBezTo>
                  <a:pt x="19288" y="20482"/>
                  <a:pt x="19424" y="20407"/>
                  <a:pt x="19438" y="20391"/>
                </a:cubicBezTo>
                <a:cubicBezTo>
                  <a:pt x="19466" y="20358"/>
                  <a:pt x="19466" y="20333"/>
                  <a:pt x="19509" y="20285"/>
                </a:cubicBezTo>
                <a:cubicBezTo>
                  <a:pt x="19558" y="20229"/>
                  <a:pt x="19544" y="20183"/>
                  <a:pt x="19544" y="20108"/>
                </a:cubicBezTo>
                <a:cubicBezTo>
                  <a:pt x="19544" y="20005"/>
                  <a:pt x="19512" y="20081"/>
                  <a:pt x="19473" y="20003"/>
                </a:cubicBezTo>
                <a:cubicBezTo>
                  <a:pt x="19454" y="19966"/>
                  <a:pt x="19452" y="19938"/>
                  <a:pt x="19403" y="19932"/>
                </a:cubicBezTo>
                <a:cubicBezTo>
                  <a:pt x="19318" y="19921"/>
                  <a:pt x="19264" y="19948"/>
                  <a:pt x="19226" y="19967"/>
                </a:cubicBezTo>
                <a:cubicBezTo>
                  <a:pt x="19188" y="19986"/>
                  <a:pt x="19163" y="20012"/>
                  <a:pt x="19156" y="20073"/>
                </a:cubicBezTo>
                <a:cubicBezTo>
                  <a:pt x="19147" y="20153"/>
                  <a:pt x="19171" y="20177"/>
                  <a:pt x="19121" y="20214"/>
                </a:cubicBezTo>
                <a:cubicBezTo>
                  <a:pt x="19051" y="20265"/>
                  <a:pt x="19102" y="20262"/>
                  <a:pt x="19015" y="20320"/>
                </a:cubicBezTo>
              </a:path>
              <a:path w="1871" h="2470">
                <a:moveTo>
                  <a:pt x="19121" y="20532"/>
                </a:moveTo>
                <a:cubicBezTo>
                  <a:pt x="19121" y="20614"/>
                  <a:pt x="19078" y="20916"/>
                  <a:pt x="19156" y="20955"/>
                </a:cubicBezTo>
                <a:cubicBezTo>
                  <a:pt x="19242" y="20998"/>
                  <a:pt x="19441" y="20942"/>
                  <a:pt x="19509" y="20920"/>
                </a:cubicBezTo>
                <a:cubicBezTo>
                  <a:pt x="19559" y="20904"/>
                  <a:pt x="19608" y="20898"/>
                  <a:pt x="19614" y="20849"/>
                </a:cubicBezTo>
                <a:cubicBezTo>
                  <a:pt x="19621" y="20791"/>
                  <a:pt x="19650" y="20773"/>
                  <a:pt x="19650" y="20708"/>
                </a:cubicBezTo>
                <a:cubicBezTo>
                  <a:pt x="19650" y="20659"/>
                  <a:pt x="19669" y="20594"/>
                  <a:pt x="19614" y="20567"/>
                </a:cubicBezTo>
                <a:cubicBezTo>
                  <a:pt x="19565" y="20543"/>
                  <a:pt x="19581" y="20479"/>
                  <a:pt x="19544" y="20461"/>
                </a:cubicBezTo>
                <a:cubicBezTo>
                  <a:pt x="19504" y="20441"/>
                  <a:pt x="19446" y="20410"/>
                  <a:pt x="19403" y="20391"/>
                </a:cubicBezTo>
                <a:cubicBezTo>
                  <a:pt x="19338" y="20362"/>
                  <a:pt x="19341" y="20421"/>
                  <a:pt x="19297" y="20426"/>
                </a:cubicBezTo>
                <a:cubicBezTo>
                  <a:pt x="19262" y="20426"/>
                  <a:pt x="19250" y="20426"/>
                  <a:pt x="19262" y="20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692760"/>
            <a:ext cx="749160" cy="1067040"/>
          </a:xfrm>
          <a:custGeom>
            <a:avLst/>
            <a:gdLst/>
            <a:ahLst/>
            <a:rect l="l" t="t" r="r" b="b"/>
            <a:pathLst>
              <a:path w="2082" h="2965">
                <a:moveTo>
                  <a:pt x="20990" y="19579"/>
                </a:moveTo>
                <a:cubicBezTo>
                  <a:pt x="20976" y="19634"/>
                  <a:pt x="20955" y="19657"/>
                  <a:pt x="20955" y="19720"/>
                </a:cubicBezTo>
                <a:cubicBezTo>
                  <a:pt x="20955" y="19767"/>
                  <a:pt x="20955" y="19814"/>
                  <a:pt x="20955" y="19861"/>
                </a:cubicBezTo>
              </a:path>
              <a:path w="2082" h="2965">
                <a:moveTo>
                  <a:pt x="21590" y="18591"/>
                </a:moveTo>
                <a:cubicBezTo>
                  <a:pt x="21590" y="18827"/>
                  <a:pt x="21590" y="19462"/>
                  <a:pt x="21590" y="19226"/>
                </a:cubicBezTo>
              </a:path>
              <a:path w="2082" h="2965">
                <a:moveTo>
                  <a:pt x="21943" y="18662"/>
                </a:moveTo>
                <a:cubicBezTo>
                  <a:pt x="21943" y="18738"/>
                  <a:pt x="21965" y="18779"/>
                  <a:pt x="21978" y="18838"/>
                </a:cubicBezTo>
                <a:cubicBezTo>
                  <a:pt x="22002" y="18951"/>
                  <a:pt x="21991" y="19089"/>
                  <a:pt x="22013" y="19191"/>
                </a:cubicBezTo>
                <a:cubicBezTo>
                  <a:pt x="22021" y="19230"/>
                  <a:pt x="22013" y="19290"/>
                  <a:pt x="22013" y="19332"/>
                </a:cubicBezTo>
              </a:path>
              <a:path w="2082" h="2965">
                <a:moveTo>
                  <a:pt x="22401" y="18627"/>
                </a:moveTo>
                <a:cubicBezTo>
                  <a:pt x="22613" y="18627"/>
                  <a:pt x="22824" y="18627"/>
                  <a:pt x="23036" y="18627"/>
                </a:cubicBezTo>
                <a:cubicBezTo>
                  <a:pt x="23001" y="18627"/>
                  <a:pt x="22989" y="18627"/>
                  <a:pt x="22966" y="18627"/>
                </a:cubicBezTo>
              </a:path>
              <a:path w="2082" h="2965">
                <a:moveTo>
                  <a:pt x="22684" y="18803"/>
                </a:moveTo>
                <a:cubicBezTo>
                  <a:pt x="22684" y="18991"/>
                  <a:pt x="22684" y="19180"/>
                  <a:pt x="22684" y="19368"/>
                </a:cubicBezTo>
              </a:path>
              <a:path w="2082" h="2965">
                <a:moveTo>
                  <a:pt x="22931" y="18662"/>
                </a:moveTo>
                <a:cubicBezTo>
                  <a:pt x="22931" y="18850"/>
                  <a:pt x="22912" y="19060"/>
                  <a:pt x="22966" y="19226"/>
                </a:cubicBezTo>
                <a:cubicBezTo>
                  <a:pt x="22966" y="19262"/>
                  <a:pt x="22966" y="19273"/>
                  <a:pt x="22966" y="19297"/>
                </a:cubicBezTo>
              </a:path>
              <a:path w="2082" h="2965">
                <a:moveTo>
                  <a:pt x="21661" y="19685"/>
                </a:moveTo>
                <a:cubicBezTo>
                  <a:pt x="21673" y="19720"/>
                  <a:pt x="21719" y="19736"/>
                  <a:pt x="21766" y="19756"/>
                </a:cubicBezTo>
                <a:cubicBezTo>
                  <a:pt x="21882" y="19805"/>
                  <a:pt x="21996" y="19791"/>
                  <a:pt x="22119" y="19791"/>
                </a:cubicBezTo>
                <a:cubicBezTo>
                  <a:pt x="22342" y="19791"/>
                  <a:pt x="22933" y="19890"/>
                  <a:pt x="22754" y="19756"/>
                </a:cubicBezTo>
                <a:cubicBezTo>
                  <a:pt x="22719" y="19756"/>
                  <a:pt x="22707" y="19756"/>
                  <a:pt x="22684" y="19756"/>
                </a:cubicBezTo>
              </a:path>
              <a:path w="2082" h="2965">
                <a:moveTo>
                  <a:pt x="22190" y="20496"/>
                </a:moveTo>
                <a:cubicBezTo>
                  <a:pt x="22190" y="20617"/>
                  <a:pt x="22190" y="20744"/>
                  <a:pt x="22225" y="20814"/>
                </a:cubicBezTo>
                <a:cubicBezTo>
                  <a:pt x="22254" y="20871"/>
                  <a:pt x="22324" y="20849"/>
                  <a:pt x="22401" y="20849"/>
                </a:cubicBezTo>
                <a:cubicBezTo>
                  <a:pt x="22414" y="20849"/>
                  <a:pt x="22578" y="20779"/>
                  <a:pt x="22578" y="20779"/>
                </a:cubicBezTo>
                <a:cubicBezTo>
                  <a:pt x="22628" y="20733"/>
                  <a:pt x="22665" y="20663"/>
                  <a:pt x="22684" y="20602"/>
                </a:cubicBezTo>
                <a:cubicBezTo>
                  <a:pt x="22709" y="20521"/>
                  <a:pt x="22688" y="20385"/>
                  <a:pt x="22648" y="20355"/>
                </a:cubicBezTo>
                <a:cubicBezTo>
                  <a:pt x="22585" y="20308"/>
                  <a:pt x="22588" y="20285"/>
                  <a:pt x="22507" y="20285"/>
                </a:cubicBezTo>
                <a:cubicBezTo>
                  <a:pt x="22450" y="20285"/>
                  <a:pt x="22327" y="20259"/>
                  <a:pt x="22296" y="20320"/>
                </a:cubicBezTo>
                <a:cubicBezTo>
                  <a:pt x="22273" y="20366"/>
                  <a:pt x="22260" y="20404"/>
                  <a:pt x="22260" y="20461"/>
                </a:cubicBezTo>
                <a:cubicBezTo>
                  <a:pt x="22260" y="20543"/>
                  <a:pt x="22260" y="20626"/>
                  <a:pt x="22260" y="20708"/>
                </a:cubicBezTo>
              </a:path>
              <a:path w="2082" h="2965">
                <a:moveTo>
                  <a:pt x="22472" y="20920"/>
                </a:moveTo>
                <a:cubicBezTo>
                  <a:pt x="22410" y="20920"/>
                  <a:pt x="22401" y="20929"/>
                  <a:pt x="22366" y="20955"/>
                </a:cubicBezTo>
                <a:cubicBezTo>
                  <a:pt x="22317" y="20992"/>
                  <a:pt x="22320" y="21029"/>
                  <a:pt x="22296" y="21061"/>
                </a:cubicBezTo>
                <a:cubicBezTo>
                  <a:pt x="22263" y="21104"/>
                  <a:pt x="22229" y="21183"/>
                  <a:pt x="22225" y="21237"/>
                </a:cubicBezTo>
                <a:cubicBezTo>
                  <a:pt x="22218" y="21335"/>
                  <a:pt x="22233" y="21404"/>
                  <a:pt x="22260" y="21484"/>
                </a:cubicBezTo>
                <a:cubicBezTo>
                  <a:pt x="22273" y="21522"/>
                  <a:pt x="22287" y="21549"/>
                  <a:pt x="22331" y="21555"/>
                </a:cubicBezTo>
                <a:cubicBezTo>
                  <a:pt x="22389" y="21563"/>
                  <a:pt x="22512" y="21580"/>
                  <a:pt x="22543" y="21519"/>
                </a:cubicBezTo>
                <a:cubicBezTo>
                  <a:pt x="22555" y="21496"/>
                  <a:pt x="22628" y="21361"/>
                  <a:pt x="22648" y="21343"/>
                </a:cubicBezTo>
                <a:cubicBezTo>
                  <a:pt x="22733" y="21266"/>
                  <a:pt x="22719" y="21256"/>
                  <a:pt x="22719" y="21131"/>
                </a:cubicBezTo>
                <a:cubicBezTo>
                  <a:pt x="22719" y="21052"/>
                  <a:pt x="22701" y="21025"/>
                  <a:pt x="22684" y="20990"/>
                </a:cubicBezTo>
                <a:cubicBezTo>
                  <a:pt x="22677" y="20976"/>
                  <a:pt x="22613" y="20902"/>
                  <a:pt x="22578" y="20884"/>
                </a:cubicBezTo>
                <a:cubicBezTo>
                  <a:pt x="22540" y="20864"/>
                  <a:pt x="22537" y="20799"/>
                  <a:pt x="22507" y="20779"/>
                </a:cubicBezTo>
                <a:cubicBezTo>
                  <a:pt x="22468" y="20753"/>
                  <a:pt x="22457" y="20718"/>
                  <a:pt x="22437" y="207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08960" y="6692760"/>
            <a:ext cx="1015920" cy="990720"/>
          </a:xfrm>
          <a:custGeom>
            <a:avLst/>
            <a:gdLst/>
            <a:ahLst/>
            <a:rect l="l" t="t" r="r" b="b"/>
            <a:pathLst>
              <a:path w="2823" h="2753">
                <a:moveTo>
                  <a:pt x="23636" y="19720"/>
                </a:moveTo>
                <a:cubicBezTo>
                  <a:pt x="23636" y="19779"/>
                  <a:pt x="23636" y="19838"/>
                  <a:pt x="23636" y="19897"/>
                </a:cubicBezTo>
              </a:path>
              <a:path w="2823" h="2753">
                <a:moveTo>
                  <a:pt x="24024" y="18768"/>
                </a:moveTo>
                <a:cubicBezTo>
                  <a:pt x="24024" y="18944"/>
                  <a:pt x="24024" y="19121"/>
                  <a:pt x="24024" y="19297"/>
                </a:cubicBezTo>
              </a:path>
              <a:path w="2823" h="2753">
                <a:moveTo>
                  <a:pt x="24483" y="18733"/>
                </a:moveTo>
                <a:cubicBezTo>
                  <a:pt x="24565" y="18733"/>
                  <a:pt x="24648" y="18733"/>
                  <a:pt x="24730" y="18733"/>
                </a:cubicBezTo>
                <a:cubicBezTo>
                  <a:pt x="24730" y="18790"/>
                  <a:pt x="24744" y="18865"/>
                  <a:pt x="24694" y="18909"/>
                </a:cubicBezTo>
                <a:cubicBezTo>
                  <a:pt x="24670" y="18930"/>
                  <a:pt x="24649" y="19002"/>
                  <a:pt x="24624" y="19015"/>
                </a:cubicBezTo>
                <a:cubicBezTo>
                  <a:pt x="24589" y="19015"/>
                  <a:pt x="24577" y="19015"/>
                  <a:pt x="24589" y="19050"/>
                </a:cubicBezTo>
                <a:cubicBezTo>
                  <a:pt x="24701" y="19050"/>
                  <a:pt x="24802" y="19041"/>
                  <a:pt x="24906" y="19085"/>
                </a:cubicBezTo>
                <a:cubicBezTo>
                  <a:pt x="24965" y="19110"/>
                  <a:pt x="25060" y="19151"/>
                  <a:pt x="25083" y="19191"/>
                </a:cubicBezTo>
                <a:cubicBezTo>
                  <a:pt x="25120" y="19255"/>
                  <a:pt x="25072" y="19384"/>
                  <a:pt x="25047" y="19403"/>
                </a:cubicBezTo>
                <a:cubicBezTo>
                  <a:pt x="24985" y="19449"/>
                  <a:pt x="24953" y="19438"/>
                  <a:pt x="24871" y="19438"/>
                </a:cubicBezTo>
                <a:cubicBezTo>
                  <a:pt x="24768" y="19438"/>
                  <a:pt x="24494" y="19473"/>
                  <a:pt x="24448" y="19403"/>
                </a:cubicBezTo>
              </a:path>
              <a:path w="2823" h="2753">
                <a:moveTo>
                  <a:pt x="25506" y="18591"/>
                </a:moveTo>
                <a:cubicBezTo>
                  <a:pt x="25506" y="18909"/>
                  <a:pt x="25506" y="19791"/>
                  <a:pt x="25506" y="19473"/>
                </a:cubicBezTo>
                <a:cubicBezTo>
                  <a:pt x="25506" y="19461"/>
                  <a:pt x="25506" y="19450"/>
                  <a:pt x="25506" y="19438"/>
                </a:cubicBezTo>
              </a:path>
              <a:path w="2823" h="2753">
                <a:moveTo>
                  <a:pt x="25894" y="18591"/>
                </a:moveTo>
                <a:cubicBezTo>
                  <a:pt x="25877" y="18645"/>
                  <a:pt x="25859" y="18621"/>
                  <a:pt x="25859" y="18697"/>
                </a:cubicBezTo>
                <a:cubicBezTo>
                  <a:pt x="25859" y="18813"/>
                  <a:pt x="25876" y="18906"/>
                  <a:pt x="25894" y="19015"/>
                </a:cubicBezTo>
                <a:cubicBezTo>
                  <a:pt x="25916" y="19148"/>
                  <a:pt x="25859" y="19279"/>
                  <a:pt x="25929" y="19403"/>
                </a:cubicBezTo>
                <a:cubicBezTo>
                  <a:pt x="25964" y="19465"/>
                  <a:pt x="25948" y="19582"/>
                  <a:pt x="25894" y="19473"/>
                </a:cubicBezTo>
                <a:cubicBezTo>
                  <a:pt x="25894" y="19461"/>
                  <a:pt x="25894" y="19450"/>
                  <a:pt x="25894" y="19438"/>
                </a:cubicBezTo>
              </a:path>
              <a:path w="2823" h="2753">
                <a:moveTo>
                  <a:pt x="25259" y="18591"/>
                </a:moveTo>
                <a:cubicBezTo>
                  <a:pt x="25353" y="18649"/>
                  <a:pt x="25429" y="18606"/>
                  <a:pt x="25541" y="18627"/>
                </a:cubicBezTo>
                <a:cubicBezTo>
                  <a:pt x="25665" y="18651"/>
                  <a:pt x="25765" y="18662"/>
                  <a:pt x="25894" y="18662"/>
                </a:cubicBezTo>
                <a:cubicBezTo>
                  <a:pt x="25941" y="18662"/>
                  <a:pt x="26011" y="18662"/>
                  <a:pt x="25964" y="18662"/>
                </a:cubicBezTo>
              </a:path>
              <a:path w="2823" h="2753">
                <a:moveTo>
                  <a:pt x="24906" y="20144"/>
                </a:moveTo>
                <a:cubicBezTo>
                  <a:pt x="24862" y="20144"/>
                  <a:pt x="24812" y="20155"/>
                  <a:pt x="24800" y="20179"/>
                </a:cubicBezTo>
                <a:cubicBezTo>
                  <a:pt x="24777" y="20225"/>
                  <a:pt x="24735" y="20246"/>
                  <a:pt x="24730" y="20285"/>
                </a:cubicBezTo>
                <a:cubicBezTo>
                  <a:pt x="24723" y="20343"/>
                  <a:pt x="24694" y="20361"/>
                  <a:pt x="24694" y="20426"/>
                </a:cubicBezTo>
                <a:cubicBezTo>
                  <a:pt x="24694" y="20515"/>
                  <a:pt x="24714" y="20475"/>
                  <a:pt x="24730" y="20567"/>
                </a:cubicBezTo>
                <a:cubicBezTo>
                  <a:pt x="24836" y="20603"/>
                  <a:pt x="24789" y="20638"/>
                  <a:pt x="24941" y="20638"/>
                </a:cubicBezTo>
                <a:cubicBezTo>
                  <a:pt x="25012" y="20638"/>
                  <a:pt x="25082" y="20638"/>
                  <a:pt x="25153" y="20638"/>
                </a:cubicBezTo>
                <a:cubicBezTo>
                  <a:pt x="25153" y="20558"/>
                  <a:pt x="25181" y="20590"/>
                  <a:pt x="25188" y="20532"/>
                </a:cubicBezTo>
                <a:cubicBezTo>
                  <a:pt x="25199" y="20442"/>
                  <a:pt x="25202" y="20323"/>
                  <a:pt x="25153" y="20285"/>
                </a:cubicBezTo>
                <a:cubicBezTo>
                  <a:pt x="25113" y="20255"/>
                  <a:pt x="25107" y="20190"/>
                  <a:pt x="25083" y="20179"/>
                </a:cubicBezTo>
                <a:cubicBezTo>
                  <a:pt x="25051" y="20163"/>
                  <a:pt x="24995" y="20116"/>
                  <a:pt x="24977" y="20108"/>
                </a:cubicBezTo>
                <a:cubicBezTo>
                  <a:pt x="24961" y="20101"/>
                  <a:pt x="24858" y="20045"/>
                  <a:pt x="24836" y="20073"/>
                </a:cubicBezTo>
                <a:cubicBezTo>
                  <a:pt x="24810" y="20106"/>
                  <a:pt x="24800" y="20166"/>
                  <a:pt x="24800" y="20214"/>
                </a:cubicBezTo>
                <a:cubicBezTo>
                  <a:pt x="24800" y="20249"/>
                  <a:pt x="24800" y="20261"/>
                  <a:pt x="24800" y="20285"/>
                </a:cubicBezTo>
              </a:path>
              <a:path w="2823" h="2753">
                <a:moveTo>
                  <a:pt x="25118" y="20638"/>
                </a:moveTo>
                <a:cubicBezTo>
                  <a:pt x="25032" y="20638"/>
                  <a:pt x="24975" y="20658"/>
                  <a:pt x="24906" y="20673"/>
                </a:cubicBezTo>
                <a:cubicBezTo>
                  <a:pt x="24823" y="20691"/>
                  <a:pt x="24678" y="20731"/>
                  <a:pt x="24624" y="20779"/>
                </a:cubicBezTo>
                <a:cubicBezTo>
                  <a:pt x="24601" y="20800"/>
                  <a:pt x="24553" y="20885"/>
                  <a:pt x="24518" y="20920"/>
                </a:cubicBezTo>
                <a:cubicBezTo>
                  <a:pt x="24467" y="20972"/>
                  <a:pt x="24483" y="21024"/>
                  <a:pt x="24483" y="21096"/>
                </a:cubicBezTo>
                <a:cubicBezTo>
                  <a:pt x="24483" y="21175"/>
                  <a:pt x="24466" y="21249"/>
                  <a:pt x="24518" y="21308"/>
                </a:cubicBezTo>
                <a:cubicBezTo>
                  <a:pt x="24561" y="21356"/>
                  <a:pt x="24599" y="21343"/>
                  <a:pt x="24659" y="21343"/>
                </a:cubicBezTo>
                <a:cubicBezTo>
                  <a:pt x="24724" y="21343"/>
                  <a:pt x="24761" y="21333"/>
                  <a:pt x="24800" y="21273"/>
                </a:cubicBezTo>
                <a:cubicBezTo>
                  <a:pt x="24836" y="21217"/>
                  <a:pt x="24874" y="21144"/>
                  <a:pt x="24906" y="21096"/>
                </a:cubicBezTo>
                <a:cubicBezTo>
                  <a:pt x="24950" y="21029"/>
                  <a:pt x="25006" y="21012"/>
                  <a:pt x="25012" y="20920"/>
                </a:cubicBezTo>
                <a:cubicBezTo>
                  <a:pt x="25018" y="20822"/>
                  <a:pt x="25004" y="20753"/>
                  <a:pt x="24977" y="20673"/>
                </a:cubicBezTo>
                <a:cubicBezTo>
                  <a:pt x="24959" y="20620"/>
                  <a:pt x="24941" y="20644"/>
                  <a:pt x="24941" y="20567"/>
                </a:cubicBezTo>
              </a:path>
              <a:path w="2823" h="2753">
                <a:moveTo>
                  <a:pt x="26458" y="19685"/>
                </a:moveTo>
                <a:cubicBezTo>
                  <a:pt x="26458" y="19791"/>
                  <a:pt x="26458" y="19897"/>
                  <a:pt x="26458" y="200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04240" y="6756480"/>
            <a:ext cx="851040" cy="927000"/>
          </a:xfrm>
          <a:custGeom>
            <a:avLst/>
            <a:gdLst/>
            <a:ahLst/>
            <a:rect l="l" t="t" r="r" b="b"/>
            <a:pathLst>
              <a:path w="2365" h="2576">
                <a:moveTo>
                  <a:pt x="27305" y="18803"/>
                </a:moveTo>
                <a:cubicBezTo>
                  <a:pt x="27305" y="19053"/>
                  <a:pt x="27287" y="19284"/>
                  <a:pt x="27376" y="19509"/>
                </a:cubicBezTo>
                <a:cubicBezTo>
                  <a:pt x="27422" y="19626"/>
                  <a:pt x="27411" y="19738"/>
                  <a:pt x="27411" y="19861"/>
                </a:cubicBezTo>
                <a:cubicBezTo>
                  <a:pt x="27411" y="19873"/>
                  <a:pt x="27411" y="19885"/>
                  <a:pt x="27411" y="19897"/>
                </a:cubicBezTo>
                <a:cubicBezTo>
                  <a:pt x="27400" y="19893"/>
                  <a:pt x="27313" y="19837"/>
                  <a:pt x="27305" y="19826"/>
                </a:cubicBezTo>
                <a:cubicBezTo>
                  <a:pt x="27290" y="19804"/>
                  <a:pt x="27240" y="19769"/>
                  <a:pt x="27234" y="19756"/>
                </a:cubicBezTo>
                <a:cubicBezTo>
                  <a:pt x="27234" y="19720"/>
                  <a:pt x="27234" y="19709"/>
                  <a:pt x="27234" y="19685"/>
                </a:cubicBezTo>
              </a:path>
              <a:path w="2365" h="2576">
                <a:moveTo>
                  <a:pt x="27834" y="18874"/>
                </a:moveTo>
                <a:cubicBezTo>
                  <a:pt x="27846" y="18874"/>
                  <a:pt x="27857" y="18874"/>
                  <a:pt x="27869" y="18874"/>
                </a:cubicBezTo>
                <a:cubicBezTo>
                  <a:pt x="27903" y="18822"/>
                  <a:pt x="27951" y="18855"/>
                  <a:pt x="28011" y="18803"/>
                </a:cubicBezTo>
                <a:cubicBezTo>
                  <a:pt x="28023" y="18791"/>
                  <a:pt x="28034" y="18780"/>
                  <a:pt x="28046" y="18768"/>
                </a:cubicBezTo>
              </a:path>
              <a:path w="2365" h="2576">
                <a:moveTo>
                  <a:pt x="27764" y="19015"/>
                </a:moveTo>
                <a:cubicBezTo>
                  <a:pt x="27764" y="19133"/>
                  <a:pt x="27764" y="19250"/>
                  <a:pt x="27764" y="19368"/>
                </a:cubicBezTo>
                <a:cubicBezTo>
                  <a:pt x="27861" y="19368"/>
                  <a:pt x="28003" y="19345"/>
                  <a:pt x="28046" y="19403"/>
                </a:cubicBezTo>
                <a:cubicBezTo>
                  <a:pt x="28093" y="19465"/>
                  <a:pt x="28129" y="19530"/>
                  <a:pt x="28152" y="19614"/>
                </a:cubicBezTo>
                <a:cubicBezTo>
                  <a:pt x="28160" y="19643"/>
                  <a:pt x="28152" y="19689"/>
                  <a:pt x="28152" y="19720"/>
                </a:cubicBezTo>
                <a:cubicBezTo>
                  <a:pt x="28072" y="19720"/>
                  <a:pt x="28104" y="19751"/>
                  <a:pt x="28046" y="19756"/>
                </a:cubicBezTo>
                <a:cubicBezTo>
                  <a:pt x="27991" y="19760"/>
                  <a:pt x="27741" y="19756"/>
                  <a:pt x="27799" y="19756"/>
                </a:cubicBezTo>
                <a:cubicBezTo>
                  <a:pt x="27811" y="19756"/>
                  <a:pt x="27822" y="19756"/>
                  <a:pt x="27834" y="19756"/>
                </a:cubicBezTo>
              </a:path>
              <a:path w="2365" h="2576">
                <a:moveTo>
                  <a:pt x="28751" y="19085"/>
                </a:moveTo>
                <a:cubicBezTo>
                  <a:pt x="28751" y="19226"/>
                  <a:pt x="28751" y="19368"/>
                  <a:pt x="28751" y="19509"/>
                </a:cubicBezTo>
              </a:path>
              <a:path w="2365" h="2576">
                <a:moveTo>
                  <a:pt x="29069" y="18874"/>
                </a:moveTo>
                <a:cubicBezTo>
                  <a:pt x="29069" y="19042"/>
                  <a:pt x="29036" y="19250"/>
                  <a:pt x="29104" y="19403"/>
                </a:cubicBezTo>
                <a:cubicBezTo>
                  <a:pt x="29119" y="19438"/>
                  <a:pt x="29179" y="19574"/>
                  <a:pt x="29139" y="19614"/>
                </a:cubicBezTo>
                <a:cubicBezTo>
                  <a:pt x="29104" y="19614"/>
                  <a:pt x="29092" y="19614"/>
                  <a:pt x="29104" y="19579"/>
                </a:cubicBezTo>
              </a:path>
              <a:path w="2365" h="2576">
                <a:moveTo>
                  <a:pt x="28540" y="19015"/>
                </a:moveTo>
                <a:cubicBezTo>
                  <a:pt x="28540" y="18980"/>
                  <a:pt x="28540" y="18944"/>
                  <a:pt x="28540" y="18909"/>
                </a:cubicBezTo>
                <a:cubicBezTo>
                  <a:pt x="28575" y="18909"/>
                  <a:pt x="28611" y="18909"/>
                  <a:pt x="28646" y="18909"/>
                </a:cubicBezTo>
                <a:cubicBezTo>
                  <a:pt x="28662" y="18860"/>
                  <a:pt x="28656" y="18874"/>
                  <a:pt x="28716" y="18874"/>
                </a:cubicBezTo>
                <a:cubicBezTo>
                  <a:pt x="28734" y="18820"/>
                  <a:pt x="28758" y="18838"/>
                  <a:pt x="28822" y="18838"/>
                </a:cubicBezTo>
                <a:cubicBezTo>
                  <a:pt x="28907" y="18838"/>
                  <a:pt x="28968" y="18859"/>
                  <a:pt x="29034" y="18874"/>
                </a:cubicBezTo>
                <a:cubicBezTo>
                  <a:pt x="29107" y="18890"/>
                  <a:pt x="29174" y="18903"/>
                  <a:pt x="29245" y="18909"/>
                </a:cubicBezTo>
                <a:cubicBezTo>
                  <a:pt x="29361" y="18919"/>
                  <a:pt x="29481" y="18909"/>
                  <a:pt x="29598" y="18909"/>
                </a:cubicBezTo>
                <a:cubicBezTo>
                  <a:pt x="29598" y="18862"/>
                  <a:pt x="29598" y="18815"/>
                  <a:pt x="29598" y="18768"/>
                </a:cubicBezTo>
              </a:path>
              <a:path w="2365" h="2576">
                <a:moveTo>
                  <a:pt x="27658" y="20179"/>
                </a:moveTo>
                <a:cubicBezTo>
                  <a:pt x="27783" y="20179"/>
                  <a:pt x="27888" y="20157"/>
                  <a:pt x="28011" y="20144"/>
                </a:cubicBezTo>
                <a:cubicBezTo>
                  <a:pt x="28244" y="20120"/>
                  <a:pt x="28492" y="20189"/>
                  <a:pt x="28716" y="20108"/>
                </a:cubicBezTo>
                <a:cubicBezTo>
                  <a:pt x="28778" y="20086"/>
                  <a:pt x="28838" y="20056"/>
                  <a:pt x="28893" y="20038"/>
                </a:cubicBezTo>
                <a:cubicBezTo>
                  <a:pt x="28928" y="20038"/>
                  <a:pt x="28940" y="20038"/>
                  <a:pt x="28928" y="20003"/>
                </a:cubicBezTo>
              </a:path>
              <a:path w="2365" h="2576">
                <a:moveTo>
                  <a:pt x="28504" y="20602"/>
                </a:moveTo>
                <a:cubicBezTo>
                  <a:pt x="28452" y="20615"/>
                  <a:pt x="28417" y="20655"/>
                  <a:pt x="28399" y="20708"/>
                </a:cubicBezTo>
                <a:cubicBezTo>
                  <a:pt x="28374" y="20784"/>
                  <a:pt x="28399" y="20908"/>
                  <a:pt x="28399" y="20990"/>
                </a:cubicBezTo>
                <a:cubicBezTo>
                  <a:pt x="28451" y="20977"/>
                  <a:pt x="28507" y="20936"/>
                  <a:pt x="28540" y="20884"/>
                </a:cubicBezTo>
                <a:cubicBezTo>
                  <a:pt x="28601" y="20789"/>
                  <a:pt x="28575" y="20810"/>
                  <a:pt x="28610" y="20708"/>
                </a:cubicBezTo>
                <a:cubicBezTo>
                  <a:pt x="28641" y="20616"/>
                  <a:pt x="28669" y="20609"/>
                  <a:pt x="28610" y="20532"/>
                </a:cubicBezTo>
                <a:cubicBezTo>
                  <a:pt x="28564" y="20543"/>
                  <a:pt x="28492" y="20586"/>
                  <a:pt x="28469" y="20638"/>
                </a:cubicBezTo>
                <a:cubicBezTo>
                  <a:pt x="28469" y="20650"/>
                  <a:pt x="28469" y="20661"/>
                  <a:pt x="28469" y="20673"/>
                </a:cubicBezTo>
              </a:path>
              <a:path w="2365" h="2576">
                <a:moveTo>
                  <a:pt x="28610" y="20990"/>
                </a:moveTo>
                <a:cubicBezTo>
                  <a:pt x="28535" y="20990"/>
                  <a:pt x="28536" y="20983"/>
                  <a:pt x="28504" y="21026"/>
                </a:cubicBezTo>
                <a:cubicBezTo>
                  <a:pt x="28488" y="21047"/>
                  <a:pt x="28405" y="21163"/>
                  <a:pt x="28399" y="21167"/>
                </a:cubicBezTo>
                <a:cubicBezTo>
                  <a:pt x="28354" y="21197"/>
                  <a:pt x="28363" y="21199"/>
                  <a:pt x="28363" y="21273"/>
                </a:cubicBezTo>
                <a:cubicBezTo>
                  <a:pt x="28363" y="21308"/>
                  <a:pt x="28363" y="21320"/>
                  <a:pt x="28363" y="21343"/>
                </a:cubicBezTo>
                <a:cubicBezTo>
                  <a:pt x="28449" y="21343"/>
                  <a:pt x="28435" y="21303"/>
                  <a:pt x="28504" y="21273"/>
                </a:cubicBezTo>
                <a:cubicBezTo>
                  <a:pt x="28608" y="21228"/>
                  <a:pt x="28805" y="21338"/>
                  <a:pt x="28893" y="21237"/>
                </a:cubicBezTo>
                <a:cubicBezTo>
                  <a:pt x="28949" y="21173"/>
                  <a:pt x="28877" y="20943"/>
                  <a:pt x="28857" y="20884"/>
                </a:cubicBezTo>
                <a:cubicBezTo>
                  <a:pt x="28841" y="20836"/>
                  <a:pt x="28795" y="20796"/>
                  <a:pt x="28787" y="20779"/>
                </a:cubicBezTo>
                <a:cubicBezTo>
                  <a:pt x="28771" y="20747"/>
                  <a:pt x="28735" y="20682"/>
                  <a:pt x="28716" y="20673"/>
                </a:cubicBezTo>
                <a:cubicBezTo>
                  <a:pt x="28679" y="20654"/>
                  <a:pt x="28594" y="20671"/>
                  <a:pt x="28575" y="20708"/>
                </a:cubicBezTo>
                <a:cubicBezTo>
                  <a:pt x="28571" y="20717"/>
                  <a:pt x="28547" y="20808"/>
                  <a:pt x="28540" y="20814"/>
                </a:cubicBezTo>
                <a:cubicBezTo>
                  <a:pt x="28528" y="20814"/>
                  <a:pt x="28516" y="20814"/>
                  <a:pt x="28504" y="20814"/>
                </a:cubicBezTo>
              </a:path>
              <a:path w="2365" h="2576">
                <a:moveTo>
                  <a:pt x="28434" y="20532"/>
                </a:moveTo>
                <a:cubicBezTo>
                  <a:pt x="28434" y="20579"/>
                  <a:pt x="28434" y="20626"/>
                  <a:pt x="28434" y="20673"/>
                </a:cubicBezTo>
                <a:cubicBezTo>
                  <a:pt x="28522" y="20673"/>
                  <a:pt x="28783" y="20717"/>
                  <a:pt x="28822" y="20638"/>
                </a:cubicBezTo>
                <a:cubicBezTo>
                  <a:pt x="28837" y="20608"/>
                  <a:pt x="28854" y="20528"/>
                  <a:pt x="28857" y="20496"/>
                </a:cubicBezTo>
                <a:cubicBezTo>
                  <a:pt x="28866" y="20411"/>
                  <a:pt x="28841" y="20358"/>
                  <a:pt x="28822" y="20320"/>
                </a:cubicBezTo>
                <a:cubicBezTo>
                  <a:pt x="28802" y="20281"/>
                  <a:pt x="28822" y="20231"/>
                  <a:pt x="28787" y="20214"/>
                </a:cubicBezTo>
                <a:cubicBezTo>
                  <a:pt x="28742" y="20192"/>
                  <a:pt x="28702" y="20179"/>
                  <a:pt x="28646" y="20179"/>
                </a:cubicBezTo>
                <a:cubicBezTo>
                  <a:pt x="28574" y="20179"/>
                  <a:pt x="28569" y="20200"/>
                  <a:pt x="28540" y="20214"/>
                </a:cubicBezTo>
                <a:cubicBezTo>
                  <a:pt x="28490" y="20238"/>
                  <a:pt x="28405" y="20269"/>
                  <a:pt x="28399" y="20320"/>
                </a:cubicBezTo>
                <a:cubicBezTo>
                  <a:pt x="28391" y="20386"/>
                  <a:pt x="28363" y="20353"/>
                  <a:pt x="28363" y="20461"/>
                </a:cubicBezTo>
                <a:cubicBezTo>
                  <a:pt x="28363" y="20566"/>
                  <a:pt x="28370" y="20652"/>
                  <a:pt x="28399" y="20708"/>
                </a:cubicBezTo>
                <a:cubicBezTo>
                  <a:pt x="28399" y="20743"/>
                  <a:pt x="28399" y="20755"/>
                  <a:pt x="28399" y="207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19:47Z</dcterms:created>
  <dc:creator>abeason</dc:creator>
  <dc:description/>
  <dc:language>en-US</dc:language>
  <cp:lastModifiedBy>abeason</cp:lastModifiedBy>
  <dcterms:modified xsi:type="dcterms:W3CDTF">2008-12-03T19:16:06Z</dcterms:modified>
  <cp:revision>2</cp:revision>
  <dc:subject/>
  <dc:title>Slide 1</dc:title>
</cp:coreProperties>
</file>